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897-2BC1-4F84-A504-180FBD11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FEA9-EAB9-4A4A-A80E-CE3D192B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5AE9-BDBD-4924-AC10-8EB5821C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084B-AD71-4400-8425-B5D2CDB62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80D8-B187-407B-A855-D06F24A1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5707-05D2-4CA4-808D-8EB3D916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6DB5-1FC9-4B89-9702-F1DCD441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87D4-6968-489F-B7B9-69A17B8D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5D8D-756C-4B58-8272-C1CB02BC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DA39-8743-499A-8CF7-F2599434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A5AD-5DD3-4195-AB2A-4FBCC083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9039-1407-4C9A-AE03-C2E982FA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EB5A-6524-4394-AB06-8DECBF28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E5A9-09AD-4C36-9F66-6ACC24BF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E6DC-9DE9-486C-858F-3E04EA98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8584-45AB-4E3F-875F-B4AD3F9D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EFFB-1D1F-4B48-9C40-99806A78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9B9B2-7DD3-494F-9A39-9CFE7EE6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295B5-A225-4147-8565-4715BADB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9A5B7-2B48-4A47-AB72-397A3A06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D1D15-8479-4BBA-B853-D8E935D1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4069E-0FCA-4EAF-AB21-40C9C2EA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82FF-F1CA-4E0B-99F9-B90CEDB1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7B265-24AF-4CEF-B8D0-E4849A46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87C60-0607-48D4-B265-06A045B9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ABB0A-600F-41D4-A702-C93001B4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4B5F6-BD4E-4C8E-B67D-30BD7667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F2621-C31A-4BEB-84B9-D7367371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42766-FA2A-4483-81E4-96744CD0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8B96D-51E4-498B-B963-40525BAE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6E96D-B104-4BCD-BD9E-BCD166D6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5535F-6784-4782-95BB-0E78A331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92004-2184-4F32-A54A-20CF1B96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19DE-DF54-4BCE-BF55-439F306C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74046-89AA-4218-B144-6FDC7008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BB65C-0CC3-476A-A8C9-BBA9C008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E97B1-6D0A-4E88-BEB9-9DE62C3A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B00CD-B215-4C44-B263-35DF34CC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DDC7E-32A7-4AE2-9A42-52AE620E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9066B-95CD-4697-B085-B6E711CE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4363B-AA81-4383-8B20-93AF61B5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61EA1-9A74-4BDC-B3C2-D9DC2A1D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06400-BCF5-4E74-8486-AAFF34CF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6D99D-6C70-4754-A7B0-3E4FA2C4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6F24-EFA4-4BD8-BEAB-28AC9991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30CF2-EEC3-4223-A41B-1990A8CB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E1F98-B294-4299-B61E-1EE88593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C9C7F-37F8-4989-9968-3D441AEA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79D2E-F1BB-43B6-B907-6C775454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4671A-4AE4-4B77-85D0-3D8C44BA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E9E28-3DAB-4BD4-B416-EE8CDFC3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1ACBE-034D-4F9D-BBA0-A67D0B1A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9822E-CF90-4656-A310-2E4CF2C4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B46FB-50D5-45A6-96E1-2FA0F299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6A66F-5F0B-4826-AEE9-8671FD2E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F76-5D15-4F4F-A78B-688C3E7D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F3568-9DFF-4145-B2D2-8AB5E1E8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4FE25-F9EB-4624-8EBA-43D675EF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6E6C1-F001-46FB-BC89-BE955C23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7CE52-8305-408A-A193-4433B6EA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CA18D-7EDC-4C62-AD39-0BBC6B28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08551-E6C6-41BC-8A1F-953F39A6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EE95B-CB27-49BF-AEC9-72BFB349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0AAAE-F9CC-4EF0-9AE5-1732C7F0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ECBCD-FBEE-42CA-86A3-306FF214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DA3F9-76F9-4B01-944C-A1545DAA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5751-3731-4379-8643-C6AD2533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CE96A-D603-479D-A3D6-A327D4EA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49600-068A-40DB-9A7B-EFC2D11F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93EB8-72AB-4A5D-853B-4B9966BB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0A6BB-B552-42EC-815D-F4610559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6228D-2134-480F-B605-7A751591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674A2-4A69-4EE4-8599-A7C41BCB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45977-BE23-46DE-9555-FC68204F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D6DD6-AE0F-4D4D-8EA6-D2F26E56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8292F-AC90-40A5-BE20-FAA4D2E8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BCCF1-74F9-4A3B-AA73-CD4298D0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E7B5-4344-4664-A184-3961534C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A4071-B977-4736-9ED6-A3DAA1C3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ED18B-D173-485A-A589-4733FF8B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6AA9D-195A-42C0-8435-D0E078C5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E3253-63BF-4B0E-B69E-645C8666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CD46A-CFD9-48D1-843D-4BB41C83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3FE8-B716-4A5C-82E1-62DB0353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8428-A516-45FD-A4F9-C1C2FE7FB12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7D61-2032-4276-BC82-5CD1877D7D2F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8664-3C60-48BB-8523-04A6D92ADD1E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E7D2-A883-4E14-9876-5B997D1E461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2018-6C39-486A-B3FE-99287DD4CC9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C510-0407-4A6F-ABFB-DEF3E50C464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812A-1D6C-496E-815B-E6F1A37AA15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t. Stephen Elementary School’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3" descr=""/>
          <p:cNvPicPr/>
          <p:nvPr/>
        </p:nvPicPr>
        <p:blipFill>
          <a:blip r:embed="rId1"/>
          <a:stretch/>
        </p:blipFill>
        <p:spPr>
          <a:xfrm>
            <a:off x="-36360" y="146160"/>
            <a:ext cx="2736720" cy="9936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3018960" y="1742760"/>
            <a:ext cx="5921640" cy="4559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re there any more prize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68120" y="1730520"/>
            <a:ext cx="2468880" cy="4572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30" name="TextBox 2"/>
          <p:cNvSpPr/>
          <p:nvPr/>
        </p:nvSpPr>
        <p:spPr>
          <a:xfrm>
            <a:off x="0" y="2438280"/>
            <a:ext cx="889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we can meet our learning goal of having each student move at least 3 levels on the pyramid , we can go to Fredericton , and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LUS KINGSWOOD PARK!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4" descr="http://cosmic.mybusinessadmin.com/images/cosmiczone.jpg"/>
          <p:cNvPicPr/>
          <p:nvPr/>
        </p:nvPicPr>
        <p:blipFill>
          <a:blip r:embed="rId2"/>
          <a:stretch/>
        </p:blipFill>
        <p:spPr>
          <a:xfrm>
            <a:off x="81000" y="2971800"/>
            <a:ext cx="9063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promise to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Do our best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 Always encourage others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Never give up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Content Placeholder 3" descr="ist2_876701-bee-cartoon.jpg"/>
          <p:cNvPicPr/>
          <p:nvPr/>
        </p:nvPicPr>
        <p:blipFill>
          <a:blip r:embed="rId2"/>
          <a:stretch/>
        </p:blipFill>
        <p:spPr>
          <a:xfrm>
            <a:off x="5181480" y="3884760"/>
            <a:ext cx="3429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06" name="Content Placeholder 3" descr="ist2_876701-bee-cartoon.jpg"/>
          <p:cNvPicPr/>
          <p:nvPr/>
        </p:nvPicPr>
        <p:blipFill>
          <a:blip r:embed="rId2"/>
          <a:stretch/>
        </p:blipFill>
        <p:spPr>
          <a:xfrm>
            <a:off x="2158920" y="2163600"/>
            <a:ext cx="482616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Do your best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Always encourage others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Never give up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Content Placeholder 3" descr="ist2_876701-bee-cartoon.jpg"/>
          <p:cNvPicPr/>
          <p:nvPr/>
        </p:nvPicPr>
        <p:blipFill>
          <a:blip r:embed="rId2"/>
          <a:stretch/>
        </p:blipFill>
        <p:spPr>
          <a:xfrm>
            <a:off x="4317840" y="3009960"/>
            <a:ext cx="48261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pic>
        <p:nvPicPr>
          <p:cNvPr id="311" name="Diagram 1" descr=""/>
          <p:cNvPicPr/>
          <p:nvPr/>
        </p:nvPicPr>
        <p:blipFill>
          <a:blip r:embed="rId2"/>
          <a:srcRect l="-7849" t="-4917" r="-4607" b="-1645"/>
          <a:stretch/>
        </p:blipFill>
        <p:spPr>
          <a:xfrm>
            <a:off x="1752480" y="1066680"/>
            <a:ext cx="5334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298440" y="152280"/>
            <a:ext cx="839484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ALL students move at least ONE level in our pyramid, we can celebrate with our first prize in November……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4" name="Content Placeholder 3" descr="ist2_876701-bee-cartoon.jpg"/>
          <p:cNvPicPr/>
          <p:nvPr/>
        </p:nvPicPr>
        <p:blipFill>
          <a:blip r:embed="rId2"/>
          <a:stretch/>
        </p:blipFill>
        <p:spPr>
          <a:xfrm>
            <a:off x="2286000" y="3962520"/>
            <a:ext cx="337824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 grade threes will travel to th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. Stephen High School auditorium for an afternoon movie WITH popcorn!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Picture 2" descr="http://executivepackage.com/~cubscout/images/popcorn-clipart.gif"/>
          <p:cNvPicPr/>
          <p:nvPr/>
        </p:nvPicPr>
        <p:blipFill>
          <a:blip r:embed="rId2"/>
          <a:stretch/>
        </p:blipFill>
        <p:spPr>
          <a:xfrm>
            <a:off x="2666880" y="3352680"/>
            <a:ext cx="29718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63680" y="115920"/>
            <a:ext cx="8308800" cy="16524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740880" y="1828440"/>
            <a:ext cx="8021880" cy="685800"/>
          </a:xfrm>
          <a:prstGeom prst="rect">
            <a:avLst/>
          </a:prstGeom>
          <a:noFill/>
          <a:ln w="0">
            <a:noFill/>
          </a:ln>
        </p:spPr>
        <p:txBody>
          <a:bodyPr lIns="146160" rIns="4572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s there another  prize, Dan?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20" name="Content Placeholder 3" descr="ist2_876701-bee-cartoon.jpg"/>
          <p:cNvPicPr/>
          <p:nvPr/>
        </p:nvPicPr>
        <p:blipFill>
          <a:blip r:embed="rId2"/>
          <a:stretch/>
        </p:blipFill>
        <p:spPr>
          <a:xfrm>
            <a:off x="2133720" y="2819520"/>
            <a:ext cx="48258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students move at least 2 levels in the pyramid by March…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can ALL go bowling!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Picture 2" descr="http://www.philascottishrite.org/bowling_clipart_ball_banks.gif"/>
          <p:cNvPicPr/>
          <p:nvPr/>
        </p:nvPicPr>
        <p:blipFill>
          <a:blip r:embed="rId2"/>
          <a:stretch/>
        </p:blipFill>
        <p:spPr>
          <a:xfrm>
            <a:off x="2971800" y="3048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7:29:44Z</dcterms:created>
  <dc:creator>dist 10</dc:creator>
  <dc:description/>
  <dc:language>en-US</dc:language>
  <cp:lastModifiedBy>dist 10</cp:lastModifiedBy>
  <dcterms:modified xsi:type="dcterms:W3CDTF">2009-10-01T18:38:54Z</dcterms:modified>
  <cp:revision>5</cp:revision>
  <dc:subject/>
  <dc:title>Math Master Challenge</dc:title>
</cp:coreProperties>
</file>